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3044-1691-4C57-9A13-17789657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042-B4BF-4655-8F06-BC2277B8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198-6A80-4053-AD2B-DBAE164C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0BD-D4E5-4C85-9338-BB12E7117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D229-A7CC-42C0-8AD6-31A636671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724D-3A82-4920-9DDD-C4DBD448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4510-BB02-45F4-AE32-B843E954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38DF-B428-4EA3-86E3-86725B8F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9EC6-02C7-413E-BC5F-501E35DF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DD728-9D02-4EC3-B171-B0BBB717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59D0-5A02-4E8C-9067-DEFE4685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641E-ACD1-483B-9230-D7561E3A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F471-97D2-4E7E-A3AC-30DE8560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A1BF-B5EA-4CAF-AA94-E543D579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612B-E708-43FD-9E68-4FBF89814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FF7C-58BA-48E6-8DFC-0BA1E28F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CFEB-FC23-413D-8FCE-2647A3B2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943-C98B-4DFC-B3BD-86EA88B6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86F-3B92-44FC-B985-5A907229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036-50BD-4C25-AA30-E140D0A4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D85-C704-4EFC-8FF5-FBCA481C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023-68E5-4E54-B0AE-4748139D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9BF6-CD8D-458C-B1CE-1B3A8396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05D6-C6A1-4B04-A4F3-4A004B66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dddd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b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EFBF-6A95-4CB0-A818-4E69B9FB23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a28a84"/>
                </a:gs>
                <a:gs pos="5000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5e58"/>
                </a:gs>
                <a:gs pos="50000">
                  <a:srgbClr val="a28a84"/>
                </a:gs>
                <a:gs pos="100000">
                  <a:srgbClr val="765e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765e58"/>
                </a:gs>
                <a:gs pos="100000">
                  <a:srgbClr val="a28a8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10C7-44FA-4905-9C7A-079C189E091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2692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626" t="4249" r="626" b="5558"/>
          <a:stretch/>
        </p:blipFill>
        <p:spPr>
          <a:xfrm>
            <a:off x="266760" y="1397160"/>
            <a:ext cx="8686800" cy="45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ff6600"/>
                </a:solidFill>
                <a:latin typeface="Arial"/>
              </a:rPr>
              <a:t>RNA </a:t>
            </a: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WHAT is RNA? – Ribonucleic Acid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Consists of a long chain of nucleotides </a:t>
            </a:r>
            <a:r>
              <a:rPr b="0" lang="en-CA" sz="2400" spc="-1" strike="noStrike">
                <a:solidFill>
                  <a:srgbClr val="ffffff"/>
                </a:solidFill>
                <a:latin typeface="Comic Sans MS"/>
              </a:rPr>
              <a:t>(made up of 5-carbon sugar, phosphate group, and a nitrogenous b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The sugar is a rib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RNA is single stra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Contains Uracil in place of Thym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dddd"/>
                </a:solidFill>
                <a:latin typeface="Arial"/>
              </a:rPr>
              <a:t>WHAT is RNA? – Ribonucleic Acid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3780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Ribose sugar has an extra –OH or hydroxyl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29264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It has the base uracil (U) instead of thymine (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49320" y="1413000"/>
            <a:ext cx="18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itrogenous 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A,G,C, or U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15960" y="6381720"/>
            <a:ext cx="155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gar (ribos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755" t="14178" r="11809" b="4231"/>
          <a:stretch/>
        </p:blipFill>
        <p:spPr>
          <a:xfrm>
            <a:off x="4067280" y="2060640"/>
            <a:ext cx="4752720" cy="4221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40360" y="4437000"/>
            <a:ext cx="15238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hosph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96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ra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HECK FOR UNDERSTANDING!!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981000"/>
            <a:ext cx="8763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4880" y="722160"/>
            <a:ext cx="763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484280"/>
            <a:ext cx="7864560" cy="52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1. What molecules compose a nucleotid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1.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Deoxyribose sugar, phosphate, and a nitroge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Ribose sugar, phosphate, and a nitrogen b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Q2.  Describe the shape of a DNA molecu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2.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  Long chain of nucleotides arranged in a spiral called a DOUBLE HEL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Comic Sans MS"/>
              </a:rPr>
              <a:t>Q3. What is RNA made up of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A3. </a:t>
            </a:r>
            <a:r>
              <a:rPr b="0" lang="en-CA" sz="3200" spc="-1" strike="noStrike">
                <a:solidFill>
                  <a:srgbClr val="000066"/>
                </a:solidFill>
                <a:latin typeface="Comic Sans MS"/>
              </a:rPr>
              <a:t>Long chain of nucleotides, which consists of a sugar (ribose). It is single stranded and it contains Uracil in place of Thym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DNA was first isolated by Swiss Biochemist Johann Friedrich Miescher in 186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Since DNA molecules are acidic and found in the nucleus, Miescher called them nucleic aci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mic Sans MS"/>
              </a:rPr>
              <a:t>Before scientists could fully explain their function, they needed to clearly understand their stru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18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UCLEIC AC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WHAT IS IN DNA?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ffffff"/>
                </a:solidFill>
                <a:uFillTx/>
                <a:latin typeface="Arial"/>
              </a:rPr>
              <a:t>Nucleic Acids:</a:t>
            </a: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Macromolecules containing hydrogen, oxygen, nitrogen, carbon and phosphoru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Comic Sans MS"/>
              </a:rPr>
              <a:t>Nucleotide – monomer of nucleic aci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NA is made of repeating NUCLEOT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DNA nucleotide consists of a five carbon sugar called DEOXYRIBOSE, a PHOSPHATE group and a NITROGEN 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NITROGEN BASES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2 groups of compoun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1. Purines – have two 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2. Pyrimidines – have one 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4 nitrogen b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1. Adenine &amp; Guan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2. Cytosine &amp; Thymine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2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781680" cy="4438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NUCLEOTIDE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dddd"/>
                </a:solidFill>
                <a:latin typeface="Arial"/>
              </a:rPr>
              <a:t>Nucleic Acids</a:t>
            </a:r>
            <a:endParaRPr b="0" lang="en-US" sz="48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64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tore and transmit </a:t>
            </a:r>
            <a:r>
              <a:rPr b="0" lang="en-US" sz="4000" spc="-1" strike="noStrike">
                <a:solidFill>
                  <a:srgbClr val="ff6600"/>
                </a:solidFill>
                <a:latin typeface="Comic Sans MS"/>
              </a:rPr>
              <a:t>hereditary/genetic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nfor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06864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Comic Sans MS"/>
              </a:rPr>
              <a:t>Contain information for making all the body’s protei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4653000"/>
            <a:ext cx="7696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Two types exist -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Deoxyribonucleic acid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 (DNA) &amp; 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Ribonucleic acid</a:t>
            </a: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66"/>
                </a:solidFill>
                <a:latin typeface="Comic Sans MS"/>
              </a:rPr>
              <a:t>(R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dddd"/>
                </a:solidFill>
                <a:latin typeface="Arial"/>
              </a:rPr>
              <a:t>STRUCTURE OF DNA</a:t>
            </a:r>
            <a:endParaRPr b="0" lang="en-US" sz="40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Discovered by Watson (Biologist) &amp; Crick (Physicist) using scale models of nucleotides that were arranged in a spi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Looked like a “twisted ladder” and they called it a DOUBLE HEL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omic Sans MS"/>
              </a:rPr>
              <a:t>Sides - made of alternating sugar and phosphate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Arial"/>
              </a:rPr>
              <a:t>STRUCTURE OF DNA cont.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ungs - made of paired nitrogen bases paired by hydrogen bonds and are combined in a particular w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-T and C-G (adenine pairs with thymine) and (cytosine pairs with guan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5e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ddddd"/>
                </a:solidFill>
                <a:latin typeface="Arial"/>
              </a:rPr>
              <a:t>Nucleotide  Monomers</a:t>
            </a:r>
            <a:endParaRPr b="0" lang="en-US" sz="5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Form long chains called D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3297" t="38424" r="54312" b="7760"/>
          <a:stretch/>
        </p:blipFill>
        <p:spPr>
          <a:xfrm>
            <a:off x="5148360" y="1341360"/>
            <a:ext cx="3271680" cy="5183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374160" y="1413000"/>
            <a:ext cx="1148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ackb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6320" y="2060640"/>
            <a:ext cx="1215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Nucleoti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10160" y="5157720"/>
            <a:ext cx="777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Ba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651640" y="1628280"/>
            <a:ext cx="809640" cy="79236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16720" y="2420640"/>
            <a:ext cx="762120" cy="70308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659640" y="3860280"/>
            <a:ext cx="720720" cy="129708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372000" y="5373720"/>
            <a:ext cx="936360" cy="287280"/>
          </a:xfrm>
          <a:prstGeom prst="line">
            <a:avLst/>
          </a:prstGeom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59000" y="61657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NA st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386064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omic Sans MS"/>
              </a:rPr>
              <a:t>Nucleotides are joined by sugars &amp; phosphates on the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22:51:09Z</dcterms:created>
  <dc:creator>MattJodi</dc:creator>
  <dc:description/>
  <dc:language>en-US</dc:language>
  <cp:lastModifiedBy>MattJodi</cp:lastModifiedBy>
  <dcterms:modified xsi:type="dcterms:W3CDTF">2008-03-25T23:57:55Z</dcterms:modified>
  <cp:revision>11</cp:revision>
  <dc:subject/>
  <dc:title>Slide 1</dc:title>
</cp:coreProperties>
</file>